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EB57-2C75-45E3-8DA9-C859E71560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5ED5-C535-423C-91AE-92C02B5434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F83E-5673-43A8-8FB0-AB3E9AED24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A60E-1E12-4E8E-A2FD-FAE403ABF1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C16E-C728-41E5-B109-B83117F118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6B3C-B605-48BF-A4B5-007AEFB086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9EEF-3FB2-48EF-B59D-3ABA98C076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42A2-8BC2-4B84-8202-60A2728628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A5C5-C200-4C1B-A4D1-F914A76F2A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2B2B-94FB-4FA5-9C70-2EB95976A7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8046-E98B-44BD-BD6B-9EA967C13B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40B-DBFE-4D67-8D46-CAA3DCE5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D2F-B84B-45E3-9A3B-57AE41DD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8AA-47C2-4C61-9E15-25E3087D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30B-2617-4050-B7CA-B8AA0A46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48E-D8F3-4EBB-AB30-34574892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C5AE-87FA-4EB8-957B-36134D31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30F3-E4BF-4E29-993A-032F3B54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3DB-A7F1-4852-B830-8D73C27D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A8B-130C-4770-94C9-DB8C4BA0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2DE-5487-4FAA-B0B5-C642EBFE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6C4-C98C-4A59-B506-98EF396B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665-FA2A-4CDB-807B-1D20B02E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CAD9-7775-4B85-BA7D-0E69831FD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752120" y="91404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Атмосфера, в которой проводятся встречи, очень важна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орудуйте помещение соответствующим освещением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системой вентиляции, чтобы в вашем помещении было ни жарко, и ни холод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Если возможно, рассаживайтесь в круг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видеть глаза друг друг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старайтесь изолировать домашних животных, телевизор и радио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ничто вам не доставляло неудобств.  Наймите нян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необходим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28240" y="28191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Назначьте руководителя группы, но и других членов поощряйте вносить предложения. Способствуйте созданию доброжелательного и поддерживающего отношения, а не духа соревнования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и критицизма. Активизируйтесь не вокруг лидера, а вокруг Библии.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828440" y="9140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Будьте чуткими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райтесь избегать конфузных ситуаци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Тем, кто будет доминировать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             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критиковать других людей,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помогите быть деликатны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молитвы и изучения Библии члены группы могут поделиться личной информацией.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жизненно важно сохранять конфиденциальность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оминайте об этом каждый ра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676520" y="9907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План изучения позволит вам следовать направлению изучения 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       </a:t>
            </a: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и поддерживать в группе интерес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итая Слово Божь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вайте вопросы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примеры вопросо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тем дайте группе возможность ответить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Ободрение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ыражайте искреннюю благодарность за то, что члены группы делятся тем, чему научились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752480" y="685440"/>
            <a:ext cx="6934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Удерживайте внимание на главном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дискуссия вышла за рамки темы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 можете сказать: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Что дискуссия была очень интересной. Возможно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мы сможем продолжить ее в другой раз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ощряйте внимательное слушание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</a:t>
            </a:r>
            <a:r>
              <a:rPr b="0" lang="en-US" sz="27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удьте терпеливы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оставьте членам группы время на раздумье. Избегайте напряжения и конфликтов, указывая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Слово Божье как высший авторитет, вместо того, чтобы заниматься традиционными или нелогичными рассуждения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676520" y="68580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хотите найти ответ или попросить группу найти дополнительную информацию по теме,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не сомневаясь, говорите: Я не зна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Когда возможно, используйте видеоматериалы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дополнить яс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Способствуйте поиску более точного ответа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вая вопросы, такие как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то было полезным во время изучения? Или что нового вы узн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10666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Изучение Библии может быть завершен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ене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молитвы, которое может включать в себя прославление, просьбу и благодар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Побуждайте всех членов группы мол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ответстви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изучаемой темой или нуждами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7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2743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Молитвы могут быть краткими 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             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и спонтанными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По мере увеличения количества членов группы составьте план создания другой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7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581040"/>
            <a:ext cx="89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5105520" y="1806480"/>
            <a:ext cx="41907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Глава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7.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Евангельская рабо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 помощью малых груп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029200" y="5877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934320" y="547704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895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«Создание небольших групп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ля проведения христианской работы является частью плана, который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ыл развернут передо мною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Тем,    Кто никогда не заблуждается».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Евангелизм</a:t>
            </a:r>
            <a:r>
              <a:rPr b="1" i="1" lang="en-US" sz="36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тр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. 11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2666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«Если церковь большая, пусть ее члены сформируют небольшие группы, чтобы вместе трудиться не только для своих собратьев, но и для неверующих.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в каком-либо месте лишь двое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ли трое знают истину, то они должны составить группу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аботников».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–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видетельства для Церкви,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ом 7, стр.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04920" y="2819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Совместное изучение Библии в малых группах прекрасный способ построения дружеских отношений и духовного возрастания. Один из самых успешных способов изучения Библии – способ малых групп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752480" y="1417680"/>
            <a:ext cx="7010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дна из задач малых групп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по изучению Библии – создание атмосферы любви и принятия, которая будет способствовать новым открытиям и предоставит свободу выражать свое мнение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 Библии без страха осуждения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или критики. Подобная атмосфера поможет созиданию взаимоотношений между христианами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560" y="2438280"/>
            <a:ext cx="84582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всего приглашать потенциальных членов малой группы лично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тнеситесь внимательно к тому, чтобы детально рассказать об изучении Библии, о том,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как вы его спланировали, где будут проводиться встречи и сколько недель продлится курс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ин из способов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вы можете начать группу по изучению Библии – вы можете пригласить несколько соседей к вам домой для небольшого банке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09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Планируя проведение малой группы, важно уделить внимание пяти сферам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7339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1. Вступление</a:t>
            </a:r>
            <a:r>
              <a:rPr b="1" i="1" lang="en-US" sz="30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накомств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2. Изучение Библии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учение Слова Божье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3. Молитв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сьба к Богу о помощ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4. Социальная активность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стреч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пределами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5. Служение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ужение тому, кто не является членом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676160" y="808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Целью малых групп является содействие изучению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ния Иисуса Христа и обретение радости от следования за Творц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Четко и доступно расскажите о цели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приступаете к изучению или социальн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Уделяйте время вступлению, просьбам </a:t>
            </a:r>
            <a:r>
              <a:rPr b="1" i="1" lang="en-US" sz="24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о молитв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явлению интереса к членам вашей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Заранее спланируйте время на молитвы</a:t>
            </a:r>
            <a:r>
              <a:rPr b="0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переживаниях и нуждах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8:04Z</dcterms:created>
  <dc:creator/>
  <dc:description/>
  <dc:language>en-US</dc:language>
  <cp:lastModifiedBy/>
  <dcterms:modified xsi:type="dcterms:W3CDTF">2011-08-12T08:07:48Z</dcterms:modified>
  <cp:revision>0</cp:revision>
  <dc:subject/>
  <dc:title/>
</cp:coreProperties>
</file>